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79C-D5EF-4B27-8EC4-64FC5E6A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120-33B8-4ED3-8C17-67C94EE1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30F-943D-4BDA-8E70-D6686D9C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37C-85AB-45CF-AF8B-64E5F0BD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04E-968C-45D1-8626-7F739266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677-63B7-4B3B-B318-0B2F3E8D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346C-7614-4316-B0F1-E465D515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550-8AB1-4EB4-A5F8-B5E55043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A7B-1740-4DC0-9253-A9FCCA17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A18-8E6A-4D89-A9FE-FD0E98A0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40A-4DE6-4CA4-B388-4C0CB874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BC77-2395-4BFB-8BB1-4D4EA9D9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39D3-7C70-40C8-850D-963B5ADF1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9 Chcem len tvojím,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len tvojím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e tvojím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čistý, svät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ty chcem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u ráč ma zbav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archy jeho pú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iba v teb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že spoči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be, Spasiteľ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be patriť chce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boji viery s teb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pečný byť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pevná ska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kryt isto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rúcne k tebe ľnúť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šou dieťať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tebou, drah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vo sveta tmá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cieľu kráčam sm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desí ma stra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ou veľkou lásk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ma sprevádza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 že v dome Otc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mňa miesto má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05:27:22Z</dcterms:modified>
  <cp:revision>20</cp:revision>
  <dc:subject/>
  <dc:title>Je veľký náš Pán, on slávy je Kráľ Nech do všetkých strán  spev vrúcnych znie chvál.</dc:title>
</cp:coreProperties>
</file>